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71F68-DB0F-40E7-B4AF-8B88AD0D2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21500-00E3-431E-BEC7-8307932C6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CB2CF-85A0-47F2-8B24-049D43A65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94C82-C55F-4788-ADCE-9703EF006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7316E-B726-418E-93F3-23C4F6133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216CE-F462-4BCC-A9D1-62DB4283D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93370-2B6F-4007-A30F-056754C12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53FDC-2549-4501-9CD6-EB6682880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69E26-C4A6-41E2-B28B-1BE99A37D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8F631-8D16-4D9B-9E26-FF5C57A54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E2C20-7350-4626-A90A-CC5500C84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AF32D-C73F-4D8B-B970-A9C572901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3B8D0-6477-4737-ACC0-7B9C8E9BF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7A2E8-0B46-49E4-9F38-5FD9A79D7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33195-CDAB-4A1B-8CDF-C0193034F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22CE4-34C8-4971-A96D-372B8A423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D07BB-46E1-4E34-A45F-8DE405B87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89DC63-9305-49F1-B464-FF97E1711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ED3D89-9A2B-4D0B-A143-8E007E461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760FE0-8739-43E6-AFF3-ACF75FC17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8E0481-6FB4-4389-933B-48C61D08F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BB5B76-1435-47AB-B4F0-10B023946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166C5-D140-4512-8FA2-DAF6FB8E1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5AEA8A-941B-45BA-B5B9-D2F9A80F4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E4028B-2A64-49A4-B36E-0355DD9C1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AC1DD6-8406-42BF-A330-653050497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B7270E-1FAC-4D05-A5A1-2D3713934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0FA197-219D-4F57-B1A6-B3B199970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89D39C-9ACF-4CE8-8B5A-B55BE4F54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64CC97-9C3E-4586-8454-22B9DEDD0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7CAD6B-D8E6-43FB-8060-893AC1662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1817AB-D6AE-489E-8309-19B5E3358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492739-6A49-4BFB-AF83-65E56F96F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1B940-881C-4D4B-8802-FCBDB7DF5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307582-A7F0-47F1-A9C7-F98AD58F6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CF3481-9ECF-4B4B-9780-E65F439E5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4C95E0-C450-46FA-9E79-35854F997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23B718-7EFB-4E5A-BEAB-EEDB92439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483A29-9D57-42C0-BE0C-579CD5A44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A42F86-FCD0-4E45-A814-1B62283A4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DB116D-8BF4-40A0-A4B9-DFE527B29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881001-5F68-4783-BA30-819B3B985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3181B8-181D-4AC2-8AA8-05AA384F9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07B9A6-55E9-4344-81C2-6DE9D565B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FBEA4-CA13-40C9-ADE2-263D709F9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7D7D79-8539-4C92-991B-3307957A8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0D8849-476B-4A9F-9B33-2F1B4CB44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12D6E9-4D79-4D12-B572-384AF9BB3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DA8F1D-0A59-4FED-B811-C3D4437E3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317A59-C001-4828-92C5-EAEB6D2D3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7D3770-8D4F-4E9B-8CDF-FA1620617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670AF7-DB78-45A8-BD68-EA750EA86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23A061-4513-4C46-AB57-F14176BB5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1E491D-6026-4B5B-8AF5-469DA8B63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DF7FC4-8C31-464D-BB52-E5A9958DE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E8740-98BC-4247-B1A4-3289C7E4E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6850C1-6243-4CEC-BDDB-72968D8DD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23BA24-6AF0-4AA9-A000-26543DE07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E5BE5C-4BB1-48D5-ABD6-7B293818C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9FC25F-B912-4FB9-A10E-BFE648FF4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94C263-4465-435F-8EEA-F1F8A22CA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5FE147-CA08-4335-AEC0-57DF5E3FC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DADD9E-C77E-47BA-A762-B7E6D0CBC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B8CE60-E179-4984-88E2-E25C1B4F2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C1F5E0-1D3E-4A21-AC65-EE5D671B4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0CCECA-F644-4F9A-8E39-EB9D89165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008E4-7035-4961-8546-A230B7CB0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FBDEC8-F5CF-472F-A376-23F650756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CB5921-C984-4AED-BC99-4DDB236C6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C3D199-9146-49C8-8C79-C63D8E647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329328-1898-4257-B838-DAD68832B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05BF03-D0DB-42E1-89A2-A8C992EA7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7D3C81-FC4D-4862-8F05-177B3BC5B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F32E7D-64F6-4738-ACBE-0F34DF1AD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D2C753-C56B-4FA5-A36E-10E4B9E35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6B9AAC-F8A0-4CBA-8216-C03F30C1A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78C5FB-7823-464F-83FB-E4EF8F23F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EFACC-50F6-47AC-B40B-9E0275497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71C777-CE2B-4CBC-8A11-294C1280E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020982-144A-46D3-831A-9D34F33A0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41F46C-3BEA-47F1-B43C-1BD897E96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4CB212-00F1-41F8-AFBB-126A3739D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27CEA9-2E36-49F8-AE98-B90CC977E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E838D-5972-4843-A41A-CA69E6A5F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Rectangle 8"/>
          <p:cNvSpPr/>
          <p:nvPr/>
        </p:nvSpPr>
        <p:spPr>
          <a:xfrm>
            <a:off x="0" y="6334200"/>
            <a:ext cx="9144000" cy="6660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ms-MY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FF4957-6626-410C-9833-1A6D9405CD54}" type="datetime">
              <a:rPr b="0" lang="ms-MY" sz="900" spc="-1" strike="noStrike">
                <a:solidFill>
                  <a:srgbClr val="ffffff"/>
                </a:solidFill>
                <a:latin typeface="Times New Roman"/>
              </a:rPr>
              <a:t>31/07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ms-MY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7AE3ED-4AD1-49A0-BE21-45F6A9900BE7}" type="slidenum">
              <a:rPr b="0" lang="ms-MY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Straight Connector 9"/>
          <p:cNvSpPr/>
          <p:nvPr/>
        </p:nvSpPr>
        <p:spPr>
          <a:xfrm>
            <a:off x="895320" y="1738440"/>
            <a:ext cx="7475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0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traight Connector 12"/>
          <p:cNvSpPr/>
          <p:nvPr/>
        </p:nvSpPr>
        <p:spPr>
          <a:xfrm>
            <a:off x="906480" y="4343400"/>
            <a:ext cx="740556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ms-MY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B91E86-C5D3-4B35-B786-E8DF7AC10633}" type="datetime">
              <a:rPr b="0" lang="ms-MY" sz="900" spc="-1" strike="noStrike">
                <a:solidFill>
                  <a:srgbClr val="ffffff"/>
                </a:solidFill>
                <a:latin typeface="Times New Roman"/>
              </a:rPr>
              <a:t>31/07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ms-MY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42B3DA-447B-4FE1-805D-FB1484B1839C}" type="slidenum">
              <a:rPr b="0" lang="ms-MY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10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11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Straight Connector 12"/>
          <p:cNvSpPr/>
          <p:nvPr/>
        </p:nvSpPr>
        <p:spPr>
          <a:xfrm>
            <a:off x="906480" y="4343400"/>
            <a:ext cx="740556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ms-MY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D672DE2-310D-4B2F-92F0-D02BD5F34321}" type="datetime">
              <a:rPr b="0" lang="ms-MY" sz="900" spc="-1" strike="noStrike">
                <a:solidFill>
                  <a:srgbClr val="ffffff"/>
                </a:solidFill>
                <a:latin typeface="Times New Roman"/>
              </a:rPr>
              <a:t>31/07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ms-MY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C22282C-3A29-4436-BBE0-CF62E67E36A4}" type="slidenum">
              <a:rPr b="0" lang="ms-MY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10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Rectangle 11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ms-MY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DCC75A-FF03-4AEE-90D8-F99D0016AC6D}" type="datetime">
              <a:rPr b="0" lang="ms-MY" sz="900" spc="-1" strike="noStrike">
                <a:solidFill>
                  <a:srgbClr val="ffffff"/>
                </a:solidFill>
                <a:latin typeface="Times New Roman"/>
              </a:rPr>
              <a:t>31/07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ms-MY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ABDE02-1C4B-4BF4-A71E-C4B5D4C97631}" type="slidenum">
              <a:rPr b="0" lang="ms-MY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10"/>
          <p:cNvSpPr/>
          <p:nvPr/>
        </p:nvSpPr>
        <p:spPr>
          <a:xfrm>
            <a:off x="0" y="0"/>
            <a:ext cx="3038400" cy="68580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Rectangle 11"/>
          <p:cNvSpPr/>
          <p:nvPr/>
        </p:nvSpPr>
        <p:spPr>
          <a:xfrm>
            <a:off x="3030480" y="0"/>
            <a:ext cx="47520" cy="685800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dt" idx="13"/>
          </p:nvPr>
        </p:nvSpPr>
        <p:spPr>
          <a:xfrm>
            <a:off x="348840" y="6459480"/>
            <a:ext cx="1963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ms-MY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23DB4A-6AEB-45EC-9F72-9848B8DF5504}" type="datetime">
              <a:rPr b="0" lang="ms-MY" sz="900" spc="-1" strike="noStrike">
                <a:solidFill>
                  <a:srgbClr val="ffffff"/>
                </a:solidFill>
                <a:latin typeface="Times New Roman"/>
              </a:rPr>
              <a:t>31/07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ftr" idx="14"/>
          </p:nvPr>
        </p:nvSpPr>
        <p:spPr>
          <a:xfrm>
            <a:off x="3600360" y="6459480"/>
            <a:ext cx="348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sldNum" idx="15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ms-MY" sz="1000" spc="-1" strike="noStrike">
                <a:solidFill>
                  <a:srgbClr val="34406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51BFB8-5B60-4F19-B913-E1C848852D11}" type="slidenum">
              <a:rPr b="0" lang="ms-MY" sz="1000" spc="-1" strike="noStrike">
                <a:solidFill>
                  <a:srgbClr val="34406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10"/>
          <p:cNvSpPr/>
          <p:nvPr/>
        </p:nvSpPr>
        <p:spPr>
          <a:xfrm>
            <a:off x="0" y="4952880"/>
            <a:ext cx="9142560" cy="190512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Rectangle 11"/>
          <p:cNvSpPr/>
          <p:nvPr/>
        </p:nvSpPr>
        <p:spPr>
          <a:xfrm>
            <a:off x="0" y="4915080"/>
            <a:ext cx="9142560" cy="6336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ms-MY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8441D6-62F5-4C19-822A-2EC9643EB08F}" type="datetime">
              <a:rPr b="0" lang="ms-MY" sz="900" spc="-1" strike="noStrike">
                <a:solidFill>
                  <a:srgbClr val="ffffff"/>
                </a:solidFill>
                <a:latin typeface="Times New Roman"/>
              </a:rPr>
              <a:t>31/07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ms-MY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01FAE19-9E02-41C0-8444-6BFBA9397DE1}" type="slidenum">
              <a:rPr b="0" lang="ms-MY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10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Rectangle 11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9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ms-MY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165CC3-680A-417F-BD21-036422CBBC79}" type="datetime">
              <a:rPr b="0" lang="ms-MY" sz="900" spc="-1" strike="noStrike">
                <a:solidFill>
                  <a:srgbClr val="ffffff"/>
                </a:solidFill>
                <a:latin typeface="Times New Roman"/>
              </a:rPr>
              <a:t>31/07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20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21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ms-MY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D948DFE-C81F-4A32-82CC-DC19D62A8F33}" type="slidenum">
              <a:rPr b="0" lang="ms-MY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21880" y="942480"/>
            <a:ext cx="7543800" cy="356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262626"/>
                </a:solidFill>
                <a:latin typeface="Calibri Light"/>
              </a:rPr>
              <a:t>CASE DISCUSSION 3</a:t>
            </a:r>
            <a:endParaRPr b="0" lang="en-US" sz="80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subTitle"/>
          </p:nvPr>
        </p:nvSpPr>
        <p:spPr>
          <a:xfrm>
            <a:off x="825120" y="4456080"/>
            <a:ext cx="7543800" cy="17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7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s-MY" sz="2200" spc="-1" strike="noStrike">
                <a:solidFill>
                  <a:srgbClr val="344068"/>
                </a:solidFill>
                <a:latin typeface="Calibri Light"/>
              </a:rPr>
              <a:t>DR. KONG WEI YEN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s-MY" sz="2200" spc="-1" strike="noStrike">
                <a:solidFill>
                  <a:srgbClr val="344068"/>
                </a:solidFill>
                <a:latin typeface="Calibri Light"/>
              </a:rPr>
              <a:t>PUSAT PERUBATAN UNIVERSITI KEBANGSAAN MALAYSIA, KUALA LUMPUR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s-MY" sz="2200" spc="-1" strike="noStrike">
                <a:solidFill>
                  <a:srgbClr val="344068"/>
                </a:solidFill>
                <a:latin typeface="Calibri Light"/>
              </a:rPr>
              <a:t>DR. ILIZA IDRIS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s-MY" sz="2200" spc="-1" strike="noStrike">
                <a:solidFill>
                  <a:srgbClr val="344068"/>
                </a:solidFill>
                <a:latin typeface="Calibri Light"/>
              </a:rPr>
              <a:t>KLINIK KESIHATAN AMPANGAN, NEGERI SEMBILAN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306" name="Picture 3" descr=""/>
          <p:cNvPicPr/>
          <p:nvPr/>
        </p:nvPicPr>
        <p:blipFill>
          <a:blip r:embed="rId1"/>
          <a:stretch/>
        </p:blipFill>
        <p:spPr>
          <a:xfrm>
            <a:off x="7596360" y="27000"/>
            <a:ext cx="1512720" cy="2322360"/>
          </a:xfrm>
          <a:prstGeom prst="rect">
            <a:avLst/>
          </a:prstGeom>
          <a:ln w="0">
            <a:noFill/>
          </a:ln>
        </p:spPr>
      </p:pic>
      <p:sp>
        <p:nvSpPr>
          <p:cNvPr id="307" name="Slide Number Placeholder 4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2E64C15-AF4B-4377-BBEC-273CA5CE1E56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800" spc="-1" strike="noStrike">
                <a:solidFill>
                  <a:srgbClr val="000000"/>
                </a:solidFill>
                <a:latin typeface="Calibri Light"/>
              </a:rPr>
              <a:t>Case 2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821880" y="170028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Calibri"/>
              </a:rPr>
              <a:t>A 60-year-old female is being followed up by Klinik Kesihatan for her long standing diabetes mellitus &amp; hypertension (HbA1C 9.0%, BP 160/90).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Calibri"/>
              </a:rPr>
              <a:t>She is on perindopril 4 mg ON, amlodipine 10mg OD, metformin 1000 mg BD, gliclazide 160 mg BD &amp; simvastatin 40mg ON.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Calibri"/>
              </a:rPr>
              <a:t>Her trend of serum creatinine &amp; proteinuria is as follows: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5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E567405-8AE7-48C2-9667-0D5E21C1A78F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36" name=""/>
          <p:cNvGraphicFramePr/>
          <p:nvPr/>
        </p:nvGraphicFramePr>
        <p:xfrm>
          <a:off x="971640" y="4581360"/>
          <a:ext cx="7254720" cy="2013120"/>
        </p:xfrm>
        <a:graphic>
          <a:graphicData uri="http://schemas.openxmlformats.org/drawingml/2006/table">
            <a:tbl>
              <a:tblPr/>
              <a:tblGrid>
                <a:gridCol w="1450800"/>
                <a:gridCol w="1451160"/>
                <a:gridCol w="1450800"/>
                <a:gridCol w="1451160"/>
                <a:gridCol w="145080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ef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/2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ef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/20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ef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/20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ef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/20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effa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um creatini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ef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0 μmol/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ef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0 μmol/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ef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0 </a:t>
                      </a:r>
                      <a:r>
                        <a:rPr b="0" lang="en-MY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μmol/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ef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8 </a:t>
                      </a:r>
                      <a:r>
                        <a:rPr b="0" lang="en-MY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μmol/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effa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-hour urine prote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ef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ef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ef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ef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 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effa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MY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GF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ef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ef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ef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ef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ef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800" spc="-1" strike="noStrike">
                <a:solidFill>
                  <a:srgbClr val="000000"/>
                </a:solidFill>
                <a:latin typeface="Calibri Light"/>
              </a:rPr>
              <a:t>Question 2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404040"/>
                </a:solidFill>
                <a:latin typeface="Calibri"/>
              </a:rPr>
              <a:t>Would you refer her to a nephrologist?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404040"/>
                </a:solidFill>
                <a:latin typeface="Calibri"/>
              </a:rPr>
              <a:t>Why?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9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2E464C-5D2A-4DD2-8839-00CC65B184F4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22240" y="287280"/>
            <a:ext cx="792648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800" spc="-1" strike="noStrike">
                <a:solidFill>
                  <a:srgbClr val="ff0000"/>
                </a:solidFill>
                <a:latin typeface="Calibri Light"/>
              </a:rPr>
              <a:t>Answer 2 (Points for Discussions)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821880" y="1700280"/>
            <a:ext cx="7543800" cy="46814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f in doubt, refer!</a:t>
            </a:r>
            <a:endParaRPr b="0" lang="en-US" sz="26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 few red flags in this case (instead of a usual case of CKD/DKD progression):</a:t>
            </a:r>
            <a:endParaRPr b="0" lang="en-US" sz="2600" spc="-1" strike="noStrike">
              <a:solidFill>
                <a:srgbClr val="404040"/>
              </a:solidFill>
              <a:latin typeface="Calibri"/>
            </a:endParaRPr>
          </a:p>
          <a:p>
            <a:pPr lvl="1" marL="450720" indent="-2761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rum Cr is increasing or eGFR is decreasing more than the expected range (expected decline of eGFR </a:t>
            </a:r>
            <a:r>
              <a:rPr b="0" lang="en-MY" sz="2200" spc="-1" strike="noStrike">
                <a:solidFill>
                  <a:srgbClr val="000000"/>
                </a:solidFill>
                <a:latin typeface="Calibri"/>
              </a:rPr>
              <a:t>&lt;2 ml/min/1.73 m</a:t>
            </a:r>
            <a:r>
              <a:rPr b="0" lang="en-MY" sz="2200" spc="-1" strike="noStrike" baseline="30000">
                <a:solidFill>
                  <a:srgbClr val="000000"/>
                </a:solidFill>
                <a:latin typeface="Calibri"/>
              </a:rPr>
              <a:t>2 </a:t>
            </a:r>
            <a:r>
              <a:rPr b="0" lang="en-MY" sz="2200" spc="-1" strike="noStrike">
                <a:solidFill>
                  <a:srgbClr val="000000"/>
                </a:solidFill>
                <a:latin typeface="Calibri"/>
              </a:rPr>
              <a:t>per year)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450720" indent="-2761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200" spc="-1" strike="noStrike">
                <a:solidFill>
                  <a:srgbClr val="000000"/>
                </a:solidFill>
                <a:latin typeface="Calibri"/>
              </a:rPr>
              <a:t>Is there a second renal pathology besides DKD? (i.e. Does the patient needs a renal biopsy?)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Opinions about medication dosing/safety in progressing renal failur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1" marL="450720" indent="-2761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hen to stop ACEi?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450720" indent="-2761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hen to stop metformin, etc.?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2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2E58BD-2BC4-4443-814B-6186A5ADAF90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822240" y="287280"/>
            <a:ext cx="792648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800" spc="-1" strike="noStrike">
                <a:solidFill>
                  <a:srgbClr val="ff0000"/>
                </a:solidFill>
                <a:latin typeface="Calibri Light"/>
              </a:rPr>
              <a:t>Answer 2 (Points for Discussions)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822240" y="1700280"/>
            <a:ext cx="7926480" cy="46814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99000"/>
          </a:bodyPr>
          <a:p>
            <a:pPr marL="172800" indent="-172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Timing of referral 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1" marL="446040" indent="-24804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o “hard &amp; fast” rule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446040" indent="-24804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Calibri"/>
              </a:rPr>
              <a:t>E.g. A DM patient with creatinine of 150 but proteinuria 4 g/ 24 hour needs earlier referral than an NSAIDs nephropathy patient with creatinine of 200 but proteinuria 1 g/24 hour &amp; already stopped taking NSAIDs.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172800" indent="-172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Nephrologist need to provide feedback to the referring doctors (memo, calls if necessary, writing on patient’s notebook etc.)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1" marL="446040" indent="-24804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Calibri"/>
              </a:rPr>
              <a:t>E.g. when to stop metformin, etc. 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446040" indent="-24804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at else can the primary care doctor help to monitor/ manage?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446040" indent="-24804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5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C941DE0-F55C-4E41-B108-C6C219C46B4B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800" spc="-1" strike="noStrike">
                <a:solidFill>
                  <a:srgbClr val="000000"/>
                </a:solidFill>
                <a:latin typeface="Calibri Light"/>
              </a:rPr>
              <a:t>Case 3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821880" y="1846440"/>
            <a:ext cx="7543800" cy="424656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99000"/>
          </a:bodyPr>
          <a:p>
            <a:pPr marL="172800" indent="-172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A 68-year-old male is being followed up by Klinik Kesihatan for his stable CKD. His baseline serum creatinine is around 150 μmol/L for the past 2 years.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2800" indent="-172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He is now complaining of urinary hesitancy, weak stream while urinating &amp; sense of incomplete bladder emptying, which have worsened over the past 1 month.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2800" indent="-172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His serum creatinine is now markedly elevated at 850 μmol/L.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2800" indent="-172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8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D687810-0322-495C-9871-794A5D3A010F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800" spc="-1" strike="noStrike">
                <a:solidFill>
                  <a:srgbClr val="000000"/>
                </a:solidFill>
                <a:latin typeface="Calibri Light"/>
              </a:rPr>
              <a:t>Question 3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What do you think has caused his severe acute on chronic renal failure?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Would you refer him to a nephrologist? Why?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1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38C63A-901B-4609-9135-7BA3FE1539D9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822240" y="287280"/>
            <a:ext cx="792648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800" spc="-1" strike="noStrike">
                <a:solidFill>
                  <a:srgbClr val="ff0000"/>
                </a:solidFill>
                <a:latin typeface="Calibri Light"/>
              </a:rPr>
              <a:t>Answer 3 (Points for discussions)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Need to consider obstructive uropathy if patient’s history is suggestive: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1" marL="450720" indent="-2505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igh index of suspicion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450720" indent="-2505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eed to consider in patients with unexplained AKI (or AKI on CKD), history of gross haematuria/renal stones/renal colic/pelvic tumour/radiation therapy, etc.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4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9C6CFE-19B2-405E-9C7B-9764DAAAFDF0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822240" y="287280"/>
            <a:ext cx="792648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800" spc="-1" strike="noStrike">
                <a:solidFill>
                  <a:srgbClr val="ff0000"/>
                </a:solidFill>
                <a:latin typeface="Calibri Light"/>
              </a:rPr>
              <a:t>Answer 3 (Points for discussions)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Should be considered a medical emergency &amp;  referred immediately to urology service 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Or concurrent referral to both urology &amp; nephrology services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Avoid any unnecessary delay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Delay in relieving the obstruction will result in permanent renal damage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7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EE0ACB9-BE57-4E12-88F4-62E245EDFDFD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821880" y="758880"/>
            <a:ext cx="7543800" cy="3565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8000" spc="-1" strike="noStrike">
                <a:solidFill>
                  <a:srgbClr val="262626"/>
                </a:solidFill>
                <a:latin typeface="Calibri Light"/>
              </a:rPr>
              <a:t>Thank you</a:t>
            </a:r>
            <a:endParaRPr b="0" lang="en-US" sz="80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59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CBD18A7-09F8-46A1-ACF7-70C3495281E6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0" name="Picture 3" descr=""/>
          <p:cNvPicPr/>
          <p:nvPr/>
        </p:nvPicPr>
        <p:blipFill>
          <a:blip r:embed="rId1"/>
          <a:stretch/>
        </p:blipFill>
        <p:spPr>
          <a:xfrm>
            <a:off x="7596360" y="27000"/>
            <a:ext cx="1512720" cy="232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800" spc="-1" strike="noStrike">
                <a:solidFill>
                  <a:srgbClr val="000000"/>
                </a:solidFill>
                <a:latin typeface="Calibri Light"/>
              </a:rPr>
              <a:t>Introduction 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KD has emerged as a global public health problem because of the increasing number of patients with CKD, risk of progression to ESRD, &amp; high morbidity &amp; mortality.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st CKD patients are seen in the primary care clinics during the early stages of their CKD.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0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769F1B-E8E1-4C95-9FF7-AA2FA32AEBC0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800" spc="-1" strike="noStrike">
                <a:solidFill>
                  <a:srgbClr val="000000"/>
                </a:solidFill>
                <a:latin typeface="Calibri Light"/>
              </a:rPr>
              <a:t>Introduction</a:t>
            </a:r>
            <a:r>
              <a:rPr b="1" lang="en-MY" sz="2000" spc="-1" strike="noStrike">
                <a:solidFill>
                  <a:srgbClr val="000000"/>
                </a:solidFill>
                <a:latin typeface="Calibri Light"/>
              </a:rPr>
              <a:t>-2</a:t>
            </a:r>
            <a:endParaRPr b="0" lang="en-US" sz="20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821880" y="1846080"/>
            <a:ext cx="7543800" cy="43909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t is important to identify which patients need to be referred for nephrology services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iming of referral differs according to the suspected diagnosis of the kidney problem &amp; its expected progression.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wo way communication between primary care doctors &amp; nephrologists is paramount in ensuring the best care for the patients.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3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536530E-CEC3-4C8C-989E-F19FCA6D7281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800" spc="-1" strike="noStrike">
                <a:solidFill>
                  <a:srgbClr val="000000"/>
                </a:solidFill>
                <a:latin typeface="Calibri Light"/>
              </a:rPr>
              <a:t>Introduction</a:t>
            </a:r>
            <a:r>
              <a:rPr b="1" lang="en-MY" sz="2000" spc="-1" strike="noStrike">
                <a:solidFill>
                  <a:srgbClr val="000000"/>
                </a:solidFill>
                <a:latin typeface="Calibri Light"/>
              </a:rPr>
              <a:t>-3</a:t>
            </a:r>
            <a:endParaRPr b="0" lang="en-US" sz="20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539640" y="1846080"/>
            <a:ext cx="8142480" cy="43909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99000"/>
          </a:bodyPr>
          <a:p>
            <a:pPr marL="172800" indent="-172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me studies have demonstrated that early referral of patients with more serious CKD to  nephrology care is associated with: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63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1" marL="446040" indent="-24804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duced rates of kidney failure decline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446040" indent="-24804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creased need for &amp;/or duration of hospitalisation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446040" indent="-24804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creased likelihood of permanent dialysis access created prior to dialysis onset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446040" indent="-24804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creased patient morbidity &amp; mortality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446040" indent="-24804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chieving higher Hb levels, etc. 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446040" indent="-24804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172800" indent="-172800">
              <a:lnSpc>
                <a:spcPct val="100000"/>
              </a:lnSpc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000" spc="-1" strike="noStrike">
                <a:solidFill>
                  <a:srgbClr val="404040"/>
                </a:solidFill>
                <a:latin typeface="Calibri"/>
              </a:rPr>
              <a:t>  </a:t>
            </a:r>
            <a:r>
              <a:rPr b="0" lang="en-MY" sz="1400" spc="-1" strike="noStrike">
                <a:solidFill>
                  <a:srgbClr val="000000"/>
                </a:solidFill>
                <a:latin typeface="Calibri"/>
              </a:rPr>
              <a:t>63. Kidney Health Australia. When to refer for specialist renal care. Melbourne: Kidney Health Australia; 2012</a:t>
            </a:r>
            <a:endParaRPr b="0" lang="en-US" sz="1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6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8B8DF5-9B75-4DC3-9098-B3CC03E9CAE1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800" spc="-1" strike="noStrike">
                <a:solidFill>
                  <a:srgbClr val="000000"/>
                </a:solidFill>
                <a:latin typeface="Calibri Light"/>
              </a:rPr>
              <a:t>Case 1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A 56-year-old male, who has been well-managed at Klinik Kesihatan for his diabetes mellitus &amp; hypertension, is noted to have an increasing trend of serum creatinine over the past 2 months.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His latest HbA1C is 6.8%, blood pressure 136/82, 24-hour urinary protein is 0.4 grams. 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His creatinine trend is as follows: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9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FC0CDDD-5D16-4B8B-8006-EC1EF75F7035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20" name=""/>
          <p:cNvGraphicFramePr/>
          <p:nvPr/>
        </p:nvGraphicFramePr>
        <p:xfrm>
          <a:off x="1332000" y="5013360"/>
          <a:ext cx="6553080" cy="1541520"/>
        </p:xfrm>
        <a:graphic>
          <a:graphicData uri="http://schemas.openxmlformats.org/drawingml/2006/table">
            <a:tbl>
              <a:tblPr/>
              <a:tblGrid>
                <a:gridCol w="1311120"/>
                <a:gridCol w="1309680"/>
                <a:gridCol w="1311480"/>
                <a:gridCol w="1309680"/>
                <a:gridCol w="1311120"/>
              </a:tblGrid>
              <a:tr h="4111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MY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e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/20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e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20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e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/20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e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/20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effa"/>
                    </a:solidFill>
                  </a:tcPr>
                </a:tc>
              </a:tr>
              <a:tr h="7192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MY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REA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e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4 </a:t>
                      </a:r>
                      <a:r>
                        <a:rPr b="0" lang="en-MY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μmol/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e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8 </a:t>
                      </a:r>
                      <a:r>
                        <a:rPr b="0" lang="en-MY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μmol/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e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6 </a:t>
                      </a:r>
                      <a:r>
                        <a:rPr b="0" lang="en-MY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μmol/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e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8 </a:t>
                      </a:r>
                      <a:r>
                        <a:rPr b="0" lang="en-MY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μmol/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effa"/>
                    </a:solidFill>
                  </a:tcPr>
                </a:tc>
              </a:tr>
              <a:tr h="4111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MY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GF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e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e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e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e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ef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800" spc="-1" strike="noStrike">
                <a:solidFill>
                  <a:srgbClr val="000000"/>
                </a:solidFill>
                <a:latin typeface="Calibri Light"/>
              </a:rPr>
              <a:t>Case 1 (cont.)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Upon review at the nephrology clinic, he admits to have taken naproxen 1 tab BD-TDS  for the past 2 weeks for his lower back pain, as well as consuming Shxxxxe supplement to “cleanse his blood” for the past 3 months.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3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EF52553-7CAE-4914-9D24-A2D80AF69D44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800" spc="-1" strike="noStrike">
                <a:solidFill>
                  <a:srgbClr val="000000"/>
                </a:solidFill>
                <a:latin typeface="Calibri Light"/>
              </a:rPr>
              <a:t>Question 1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Is this AKI or progression of CKD?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What causes it?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at investigations would you do?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6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1A85610-ADE1-4FB2-890C-703F37D6BC25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8534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800" spc="-1" strike="noStrike">
                <a:solidFill>
                  <a:srgbClr val="ff0000"/>
                </a:solidFill>
                <a:latin typeface="Calibri Light"/>
              </a:rPr>
              <a:t>Answer 1 (Points for discussions)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Need to differentiate AKI vs progression of CKD: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1" marL="450720" indent="-2505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gression of CKD will usually show a slow but steady trend of progression rather than a steep decline of renal function.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450720" indent="-2505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If AKI likely, might need to start investigations: 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1" marL="450720" indent="-2505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Calibri"/>
              </a:rPr>
              <a:t>Renal US, other relevant blood/urine tests, review medication list, med-med interaction, OTC medications (particularly NSAIDs), traditional meds &amp; supplements etc.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9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F1E2006-43AC-47CE-9573-B2E1E3010BD3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26920" y="287280"/>
            <a:ext cx="784872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800" spc="-1" strike="noStrike">
                <a:solidFill>
                  <a:srgbClr val="ff0000"/>
                </a:solidFill>
                <a:latin typeface="Calibri Light"/>
              </a:rPr>
              <a:t>Answer 1 (Points for discussions)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Call the nephrologist directly to refer case (if very severe or rapidly progressing AKI) instead of writing referral letter.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1" marL="450720" indent="-2505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void any unnecessary delay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450720" indent="-2505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ight “miss the boat” due to logistical delay if we’re dealing with truly emergent AKI (e.g. RPGN etc.)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2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3BA25A-DF3C-47BB-BC82-8A35D8FDAAB9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0-24T09:53:13Z</dcterms:created>
  <dc:creator>user</dc:creator>
  <dc:description/>
  <dc:language>en-US</dc:language>
  <cp:lastModifiedBy>Dr. Mohd. Aminuddin</cp:lastModifiedBy>
  <dcterms:modified xsi:type="dcterms:W3CDTF">2019-01-15T04:04:17Z</dcterms:modified>
  <cp:revision>127</cp:revision>
  <dc:subject/>
  <dc:title>SCREENING &amp; DIAGNOSIS</dc:title>
</cp:coreProperties>
</file>